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D443-1468-4109-8815-CA5A5D996C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6D6B-4CDD-4E26-A0C0-318EE2BDA7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F5CC-CA57-4F5F-966F-DC968DFCF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6E54-77FC-4C4E-ABAB-E6379CDB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3FAF-DB7B-413A-87AA-A8B3E369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8090-6841-4A75-9BBD-D431FBB59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B249-7771-44B9-9EBB-982366D9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F1CC-6743-4FC1-BD09-40A22359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512E-A6BB-436F-81ED-5586C392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C2A7-53D1-4920-8C9C-28BE2491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8CD1-380C-47C0-AF88-02830C35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1E0F-FA95-4D0D-A319-DA930B5C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B97E-CA72-4D33-9D74-87044339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2521-668F-437F-81E2-62D95420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ABEF-2096-4C08-9D38-B3D36DAFA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C:%5CUsers%5CCaroleR%5CDesktop%5CMSDEspring2013%5Cembi.mohamedamin@gmail.com" TargetMode="External"/><Relationship Id="rId2" Type="http://schemas.openxmlformats.org/officeDocument/2006/relationships/hyperlink" Target="http://www.scribd.com/doc/118928740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reen Cast o Mat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The tool that let’s you record your computer scre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Some Illustrations fr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Mohamed Amin Embi T-Novation [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mbi.mohamedamin@gmail.com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scribd.com/doc/1189287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828800" y="65160"/>
            <a:ext cx="5538960" cy="6792840"/>
          </a:xfrm>
          <a:prstGeom prst="rect">
            <a:avLst/>
          </a:prstGeom>
          <a:ln w="0">
            <a:noFill/>
          </a:ln>
        </p:spPr>
      </p:pic>
      <p:cxnSp>
        <p:nvCxnSpPr>
          <p:cNvPr id="51" name="Straight Arrow Connector 3"/>
          <p:cNvCxnSpPr/>
          <p:nvPr/>
        </p:nvCxnSpPr>
        <p:spPr>
          <a:xfrm flipH="1">
            <a:off x="6857640" y="3809520"/>
            <a:ext cx="1372320" cy="11437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2" name="TextBox 4"/>
          <p:cNvSpPr/>
          <p:nvPr/>
        </p:nvSpPr>
        <p:spPr>
          <a:xfrm>
            <a:off x="7474320" y="502920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side 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t an accou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Straight Arrow Connector 6"/>
          <p:cNvCxnSpPr/>
          <p:nvPr/>
        </p:nvCxnSpPr>
        <p:spPr>
          <a:xfrm>
            <a:off x="457200" y="3733920"/>
            <a:ext cx="1448640" cy="9151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4" name="TextBox 7"/>
          <p:cNvSpPr/>
          <p:nvPr/>
        </p:nvSpPr>
        <p:spPr>
          <a:xfrm>
            <a:off x="390240" y="4648320"/>
            <a:ext cx="173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side to lo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ce you ha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accou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6"/>
          <p:cNvSpPr/>
          <p:nvPr/>
        </p:nvSpPr>
        <p:spPr>
          <a:xfrm>
            <a:off x="3505320" y="3808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program is not suppor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 i Pads because it needs Jav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2057400" y="2209680"/>
            <a:ext cx="528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ok at each option on the recording scre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use over each o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the red button to start and stop record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ag the dotted line on the screen to choose wh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ze your recording will be, what you captu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Done and preview your wor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 Choose to Restar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267320" cy="324000"/>
          </a:xfrm>
          <a:prstGeom prst="rect">
            <a:avLst/>
          </a:prstGeom>
          <a:ln w="0">
            <a:noFill/>
          </a:ln>
        </p:spPr>
      </p:pic>
      <p:cxnSp>
        <p:nvCxnSpPr>
          <p:cNvPr id="58" name="Straight Arrow Connector 10"/>
          <p:cNvCxnSpPr/>
          <p:nvPr/>
        </p:nvCxnSpPr>
        <p:spPr>
          <a:xfrm flipV="1">
            <a:off x="5410080" y="1980360"/>
            <a:ext cx="2363040" cy="1753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9" name="Straight Arrow Connector 12"/>
          <p:cNvCxnSpPr/>
          <p:nvPr/>
        </p:nvCxnSpPr>
        <p:spPr>
          <a:xfrm flipV="1">
            <a:off x="4267080" y="1904760"/>
            <a:ext cx="2820240" cy="22104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rcRect l="0" t="0" r="0" b="29367"/>
          <a:stretch/>
        </p:blipFill>
        <p:spPr>
          <a:xfrm>
            <a:off x="771480" y="649440"/>
            <a:ext cx="6467400" cy="33890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1600200" y="1600200"/>
            <a:ext cx="22860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57200" y="4724280"/>
            <a:ext cx="7953480" cy="733680"/>
          </a:xfrm>
          <a:prstGeom prst="rect">
            <a:avLst/>
          </a:prstGeom>
          <a:ln w="0">
            <a:noFill/>
          </a:ln>
        </p:spPr>
      </p:pic>
      <p:sp>
        <p:nvSpPr>
          <p:cNvPr id="63" name="TextBox 8"/>
          <p:cNvSpPr/>
          <p:nvPr/>
        </p:nvSpPr>
        <p:spPr>
          <a:xfrm>
            <a:off x="1088280" y="4267080"/>
            <a:ext cx="60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I choose DONE…I can preview by clicking the green arro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Straight Arrow Connector 10"/>
          <p:cNvCxnSpPr/>
          <p:nvPr/>
        </p:nvCxnSpPr>
        <p:spPr>
          <a:xfrm flipH="1">
            <a:off x="914040" y="4572000"/>
            <a:ext cx="5868000" cy="534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2"/>
          <p:cNvSpPr/>
          <p:nvPr/>
        </p:nvSpPr>
        <p:spPr>
          <a:xfrm>
            <a:off x="4648320" y="0"/>
            <a:ext cx="4267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you select Done 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 Your Video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 can choose w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keep your vide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 might choose to sto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on Screen Cast o Mat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 you might choose 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load to You Tub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reen Cast storage say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 can only have 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deo stored at a time b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you keep the web addres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your video it will be there any time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like storage on You Tu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cause any platfor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uter Mac or PC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view You Tub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752480" y="0"/>
            <a:ext cx="282276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1676520" y="1523880"/>
            <a:ext cx="2971800" cy="12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423720" y="457200"/>
            <a:ext cx="8720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re are some examples of recording I have made with the too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youtube.com/watch?v=uzZL5hHPAnc&amp;list=UUj36lf1JtIgEOEo40JztNaQ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youtube.com/watch?v=49I48ouRiUs&amp;list=UUj36lf1JtIgEOEo40JztNaQ&amp;index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263160" y="457200"/>
            <a:ext cx="843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tool that allows you to capture anything on your video screen could be really helpf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creating your own Flip style videos for students to watch a lesson before the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e to clas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6T18:13:12Z</dcterms:created>
  <dc:creator>CaroleR</dc:creator>
  <dc:description/>
  <dc:language>en-US</dc:language>
  <cp:lastModifiedBy>Carole Redline</cp:lastModifiedBy>
  <dcterms:modified xsi:type="dcterms:W3CDTF">2013-04-02T18:52:52Z</dcterms:modified>
  <cp:revision>9</cp:revision>
  <dc:subject/>
  <dc:title>Screen Cast o Matic</dc:title>
</cp:coreProperties>
</file>